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ED4A-D7D6-4C3A-B46D-1FA3C255F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20B1-A964-473A-9EA1-53A6EDFB47ED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2C8E-A0FD-4EDD-BC18-CA1D91B08EBF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B59C-E2B8-4773-91EC-E254BE80DEE3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A5DB-AC77-41CE-AF79-CF48D0290E40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92E7-D267-4BD2-80F3-DC6371C7AF05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109-4623-4D57-9EC6-702CB7BE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D737-66B3-45B2-8938-5A8FA2E4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A6E-FBE5-4678-A943-4B3E60F4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269-CE50-429C-B0DD-AD32EC0D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3172-5CC5-42A7-856B-3E95FEB5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7B8E-266E-41A5-AF77-72C4C5BD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D928-B04C-4C1E-8720-C2A3F4B0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0AB7-84AB-4D7A-96CE-D5A701B3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8460-8153-4D30-8C35-E2F1F5D9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C90A-9474-4CC3-97C7-31E8E3E5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4850-1C69-43B1-AB29-36AF09AD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16F-0E57-4CF8-B15B-98441348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1228-D6A4-45A2-982B-E7D3D987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FA9C-C1FA-4F1B-82B5-1BD373E8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C113-AEEF-4926-B9F9-69C31312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D804-1B1B-4464-A96A-1ADCD047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CEDD-D41F-4B31-BE4B-568B92A1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C7D-CA46-4CFE-A8D6-745F8AC7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E4C2-318D-4313-8FCE-1A4F7ABB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235A-1316-46DF-8C2A-EBA9AB82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E97F-A83E-4E4F-913A-38431815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210-8435-4181-A60E-BCE2B32A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51A-DBDE-40F8-BEE2-AD64E813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796A-CF79-471E-8D3F-ECD905EA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3280"/>
                    <a:gd name="textAreaBottom" fmla="*/ 1223640 h 12232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2200"/>
                    <a:gd name="textAreaBottom" fmla="*/ 502560 h 5022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8B6E-2707-4D45-9B8C-26422151B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10080" y="61560"/>
              <a:ext cx="3620160" cy="6130800"/>
              <a:chOff x="5410080" y="61560"/>
              <a:chExt cx="362016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7040"/>
                <a:ext cx="2115000" cy="23558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0 h 2355840"/>
                  <a:gd name="textAreaBottom" fmla="*/ 2355840 h 23558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8400"/>
                <a:ext cx="906120" cy="84240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2400"/>
                  <a:gd name="textAreaBottom" fmla="*/ 843120 h 84240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520" y="259020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400" y="67212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120" y="264636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800" y="124452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360" y="2931480"/>
                <a:ext cx="523440" cy="326700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7000"/>
                  <a:gd name="textAreaBottom" fmla="*/ 3267000 h 32670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303120"/>
              <a:ext cx="894600" cy="821160"/>
              <a:chOff x="5652360" y="303120"/>
              <a:chExt cx="894600" cy="8211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7520" y="40284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33760"/>
              <a:chOff x="968760" y="5261400"/>
              <a:chExt cx="1059120" cy="8337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0720" y="5524560"/>
                <a:ext cx="250920" cy="3013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1320"/>
                  <a:gd name="textAreaBottom" fmla="*/ 301680 h 3013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5920" y="5739120"/>
                <a:ext cx="429480" cy="25020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50200"/>
                  <a:gd name="textAreaBottom" fmla="*/ 250560 h 2502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480" y="5385600"/>
                <a:ext cx="448920" cy="1285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949F-DCDD-49F4-AF61-58988D15E4FC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Verdana"/>
              </a:rPr>
              <a:t>Parenting Styles</a:t>
            </a:r>
            <a:endParaRPr b="0" lang="en-US" sz="7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84726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Parenting Styl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cxnSp>
        <p:nvCxnSpPr>
          <p:cNvPr id="176" name="Straight Arrow Connector 4"/>
          <p:cNvCxnSpPr/>
          <p:nvPr/>
        </p:nvCxnSpPr>
        <p:spPr>
          <a:xfrm>
            <a:off x="533520" y="3352320"/>
            <a:ext cx="8077680" cy="2520"/>
          </a:xfrm>
          <a:prstGeom prst="straightConnector1">
            <a:avLst/>
          </a:prstGeom>
          <a:ln w="38160">
            <a:solidFill>
              <a:srgbClr val="006699"/>
            </a:solidFill>
            <a:miter/>
            <a:headEnd len="med" type="arrow" w="med"/>
            <a:tailEnd len="med" type="arrow" w="med"/>
          </a:ln>
        </p:spPr>
      </p:cxnSp>
      <p:sp>
        <p:nvSpPr>
          <p:cNvPr id="177" name="TextBox 6"/>
          <p:cNvSpPr/>
          <p:nvPr/>
        </p:nvSpPr>
        <p:spPr>
          <a:xfrm>
            <a:off x="457200" y="3733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Permissive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     Authoritative 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uthoritarian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Authoritaria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mand unquestioning obedienc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se punishment to control behavio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ess likely to be affectionat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ir children tend to be unhappy, distrustful, ineffective in social interactions, dependent on adult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Authoritativ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ffectionate and lov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ovide control when necessary and set limi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low children to express their own point of view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ir children tend to be self-reliant, competent, and socially responsibl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Permissiv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ake few demand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llow children to make their own decis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se inconsistent disciplin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ir children tend to be immature, lack of self control, and explore les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91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Verdana"/>
              </a:rPr>
              <a:t>WHICH PARENTING STYLE </a:t>
            </a:r>
            <a:br>
              <a:rPr sz="3200"/>
            </a:br>
            <a:r>
              <a:rPr b="1" lang="en-US" sz="3200" spc="-1" strike="noStrike" u="sng">
                <a:solidFill>
                  <a:srgbClr val="006666"/>
                </a:solidFill>
                <a:uFillTx/>
                <a:latin typeface="Verdana"/>
              </a:rPr>
              <a:t>WERE YOU RAISED UNDER?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ich style do you feel you were raised under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were the pro’s and con’s of this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at type of parent do you think you might be one day? Why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20:32:59Z</dcterms:created>
  <dc:creator>SASD</dc:creator>
  <dc:description/>
  <dc:language>en-US</dc:language>
  <cp:lastModifiedBy>John Hampton</cp:lastModifiedBy>
  <dcterms:modified xsi:type="dcterms:W3CDTF">2012-03-26T19:07:02Z</dcterms:modified>
  <cp:revision>141</cp:revision>
  <dc:subject/>
  <dc:title>Parenting Styles</dc:title>
</cp:coreProperties>
</file>